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1.png" ContentType="image/png"/>
  <Override PartName="/ppt/media/image35.png" ContentType="image/png"/>
  <Override PartName="/ppt/media/image40.png" ContentType="image/png"/>
  <Override PartName="/ppt/media/image47.wmf" ContentType="image/x-wmf"/>
  <Override PartName="/ppt/media/image31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C275-C61A-4F35-A6C9-C1F427C989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envolupar exp(hv/kT) = 1+ hv/kt -&gt; I(v,T) = 2kTv^2 /c^2 (augment cuadratic de la intensitat amb la frecuencia, igual que en  llei de Rayleigh-J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1D9-BE5A-432E-9BDB-00D2F7DF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7A8-3885-4305-A29C-CF5058F3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1E5-AD58-4F63-8C66-297EAB37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E62-566B-47A5-9CE7-CCD4646B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D38A-3FAA-4C5B-8A15-F6D3031D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0200-B124-4403-B750-A8F0814F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5803-834E-474F-B842-3C57DF00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F953-FEC3-46C8-B2AE-E75AC0B9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B8CD-E517-40E4-BA87-532E69DA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0936-7B24-479A-876C-3D72C667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F500-E295-43AB-BB48-0D3154A5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E83-4C90-44C8-8971-3E574082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6C9D-423B-4A5D-BB46-54861D26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AF48-B00D-4C90-8E45-9805E869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8AEA-1139-4359-A97C-479B3109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0A15-08C5-468C-B8AD-D949548C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89DC-E791-4DB9-A95A-3E4472E3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2A0-F1E6-4CF3-ADE4-AFCF347B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EFA-4CCB-4F61-A9E5-2D93D06D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052-296B-49A5-9AAE-807CA76A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7B1-219A-4215-AFCC-32FEA227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34E-95F3-4068-8074-4D123A1E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13F-5377-460B-82C0-734D4FCB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BCF-DE12-460F-85A9-D724D505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1C9A-550C-4429-A973-6EA14BB39524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5E57-10F1-46CA-9D85-EE025DC23C01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b2b2b2"/>
                </a:solidFill>
                <a:latin typeface="Arial"/>
              </a:rPr>
              <a:t>RADIACIÓ TÉRMIC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32000" y="134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"/>
              </a:rPr>
              <a:t>David Jaramillo Cís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951200"/>
            <a:ext cx="4537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os neg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Definici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lei de Plan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lei de Stefan-Boltzman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lei de W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Exemples - Utilita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misivit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Llei de Kirchhof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Utilitats – Piròmetre de radiaci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xperi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Resulta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Emisivit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42920" y="1341360"/>
          <a:ext cx="6969240" cy="45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41360"/>
                    <a:ext cx="696924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misivita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Llei de Kirchhoff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716360" y="1557360"/>
          <a:ext cx="332424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557360"/>
                    <a:ext cx="33242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403280" y="4437000"/>
          <a:ext cx="101916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437000"/>
                    <a:ext cx="10191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076720" y="3284640"/>
          <a:ext cx="3260880" cy="288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3284640"/>
                    <a:ext cx="326088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95280" y="1484280"/>
            <a:ext cx="367200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ossos gri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  <a:ea typeface="Arial"/>
              </a:rPr>
              <a:t>Els objectes reals no es comporten com a cossos negres ide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  <a:ea typeface="Arial"/>
              </a:rPr>
              <a:t>No absorbeixen tota l’energia in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lei  de Kirchh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  <a:ea typeface="Arial"/>
              </a:rPr>
              <a:t>En equilibri tèrmic la absortivitat és  igual a la emissivit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651640" y="2492280"/>
                <a:ext cx="15555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εσ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b2b2b2"/>
                </a:solidFill>
                <a:latin typeface="Arial"/>
              </a:rPr>
              <a:t>Emisivitat</a:t>
            </a:r>
            <a:r>
              <a:rPr b="0" lang="ca-ES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xemples - utilitats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n teledetec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Es basa en que cada objecte emiteix en un espectre electromagnètic especif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3017880"/>
          <a:ext cx="91440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17880"/>
                    <a:ext cx="91440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misivita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iròmetre de radiació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Piròmetre de radia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Serveixen per a mesurar la temperatura dels objectes sense necessitar contacte dir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Cal conèixer l’emissivitat del objec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Fa us de la radiació termica del objecte per determinar la tempera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4365720"/>
          <a:ext cx="4578480" cy="22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65720"/>
                    <a:ext cx="4578480" cy="22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867280" y="1413000"/>
          <a:ext cx="2098800" cy="18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413000"/>
                    <a:ext cx="209880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796000" y="3500280"/>
          <a:ext cx="2362320" cy="176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6000" y="3500280"/>
                    <a:ext cx="236232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300720" y="544500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Material utilitz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Sensor de radia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Cub de Lesl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àmpada de Stefan-Boltz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2 polimet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Una font d'alimentac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Cables de connexi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1628640"/>
            <a:ext cx="34578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  <a:ea typeface="Arial"/>
              </a:rPr>
              <a:t>Determinació de les emissivitats de cada una de les parets del cub de Lesl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  <a:ea typeface="Arial"/>
              </a:rPr>
              <a:t>Comprovació de la llei de Stefan-Boltzm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Descripció dels materials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Sensor de radia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Disposa d'un anell desplaçable, que permet obrir i tancar el sens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Genera una tensió proporcional a la intensitat de la radiació que rep, aquesta tensió es mesura amb un voltímet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ub de Lesl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Cub de parets de alumini en les cuals en les cares exteriors estan tratades de forma dife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Metall pol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Metall m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Pintura blan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Pintura neg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497560" y="1600200"/>
          <a:ext cx="23382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7560" y="1600200"/>
                    <a:ext cx="23382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5076720" y="4005360"/>
          <a:ext cx="316728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4005360"/>
                    <a:ext cx="31672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Descripció dels materials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àmpada de Stefan-Boltz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s una font de radiació visible que pot arribar a temperatures de fins a 3000º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temperatura del filament es determina calculant la seua resistencia electr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635280" y="3573360"/>
          <a:ext cx="483084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3573360"/>
                    <a:ext cx="483084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art 1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s procedeix a calfar el cub de Leslie amb el sel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Una volta en equilibri s’usa el sensor per a determinar l’energia irradiada per les par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Suposarem qu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s calcula la resta d’emissivitats per comparació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11280" y="3500280"/>
                <a:ext cx="982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r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4" name=""/>
          <p:cNvGraphicFramePr/>
          <p:nvPr/>
        </p:nvGraphicFramePr>
        <p:xfrm>
          <a:off x="4500720" y="3645000"/>
          <a:ext cx="37591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645000"/>
                    <a:ext cx="37591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476360" y="4724280"/>
                <a:ext cx="863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Resultats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art 1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258920" y="1700280"/>
          <a:ext cx="6562800" cy="2549160"/>
        </p:xfrm>
        <a:graphic>
          <a:graphicData uri="http://schemas.openxmlformats.org/drawingml/2006/table">
            <a:tbl>
              <a:tblPr/>
              <a:tblGrid>
                <a:gridCol w="1093320"/>
                <a:gridCol w="1094040"/>
                <a:gridCol w="1094040"/>
                <a:gridCol w="1093680"/>
                <a:gridCol w="1094040"/>
                <a:gridCol w="1093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47640" y="1844640"/>
                <a:ext cx="5590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627280" y="1844640"/>
                <a:ext cx="6350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564000" y="1871640"/>
                <a:ext cx="8427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re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610240" y="1844640"/>
                <a:ext cx="10731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lid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22680" y="1844640"/>
                <a:ext cx="10749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anc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761160" y="1844640"/>
                <a:ext cx="105264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te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11280" y="5013360"/>
                <a:ext cx="541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an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211640" y="5013360"/>
                <a:ext cx="541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li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40360" y="5013360"/>
                <a:ext cx="5018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t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1763640" y="5084640"/>
          <a:ext cx="5473800" cy="669960"/>
        </p:xfrm>
        <a:graphic>
          <a:graphicData uri="http://schemas.openxmlformats.org/drawingml/2006/table">
            <a:tbl>
              <a:tblPr/>
              <a:tblGrid>
                <a:gridCol w="1824120"/>
                <a:gridCol w="1825560"/>
                <a:gridCol w="1824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7 ± 0.0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74 ±0.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135 ±0.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Experiment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art 2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s coloca el sensor al costat de la làmp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s regula la tensió amb la font d’alimenta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s calcula tant la resistència de la làmpada com la tensió del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771640" y="4221000"/>
          <a:ext cx="540720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4221000"/>
                    <a:ext cx="540720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Definicions prèv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47640" y="1359000"/>
          <a:ext cx="5619960" cy="19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59000"/>
                    <a:ext cx="561996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627280" y="3357720"/>
          <a:ext cx="3378240" cy="31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357720"/>
                    <a:ext cx="337824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Resultats</a:t>
            </a:r>
            <a:br>
              <a:rPr sz="4400"/>
            </a:br>
            <a:r>
              <a:rPr b="0" lang="ca-ES" sz="2000" spc="-1" strike="noStrike">
                <a:solidFill>
                  <a:srgbClr val="b2b2b2"/>
                </a:solidFill>
                <a:latin typeface="Arial"/>
              </a:rPr>
              <a:t>Part 2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71640" y="1413000"/>
          <a:ext cx="7210440" cy="370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721044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124000" y="5084640"/>
          <a:ext cx="145728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084640"/>
                    <a:ext cx="14572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2195640" y="5805360"/>
          <a:ext cx="1476360" cy="9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5805360"/>
                    <a:ext cx="14763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635280" y="5300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Arial"/>
              </a:rPr>
              <a:t>Compatible amb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5950080"/>
            <a:ext cx="475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Arial"/>
              </a:rPr>
              <a:t>No es compatible amb log(      )=-16.6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Arial"/>
              </a:rPr>
              <a:t>Açò es deu a que l’emissivitat no es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804000" y="6021360"/>
                <a:ext cx="349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’ha calculat l’emissivitat de 3 cares difer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’ha comprovat experimentalment la llei de Stefan-Boltzman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b2b2b2"/>
                </a:solidFill>
                <a:latin typeface="Arial"/>
              </a:rPr>
              <a:t>Deducció llei de Wi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33400" y="1599840"/>
            <a:ext cx="3284640" cy="2189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024160" y="1599840"/>
            <a:ext cx="3284280" cy="218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39640" y="404640"/>
                <a:ext cx="1016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71640" y="1589040"/>
                <a:ext cx="10792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340000" y="1484280"/>
            <a:ext cx="4968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Es continua per a tot x i  (x &gt; 1.7 ^ g(x) &gt;1.7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seua derivada es continua i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A més la successió de g(x) tendeix al punt fix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6720" y="1557360"/>
                <a:ext cx="12193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∃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46720" y="1916280"/>
                <a:ext cx="37972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k</m:t>
                    </m:r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→</m:t>
                    </m:r>
                    <m:r>
                      <m:t xml:space="preserve">∃</m:t>
                    </m:r>
                    <m:r>
                      <m:t xml:space="preserve">!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50920" y="2924280"/>
            <a:ext cx="36716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 u="sng">
                <a:solidFill>
                  <a:srgbClr val="ffffff"/>
                </a:solidFill>
                <a:uFillTx/>
                <a:latin typeface="Arial"/>
              </a:rPr>
              <a:t>Codi per a pyth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def inter(x, numinter, tol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i =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x0 =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error = 10*t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while(i&lt;numinter and error&gt;tol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x = 5*(1-math.e**(-x0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error = abs(x-x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x0 =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i +=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print i, error,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708360" y="3213000"/>
          <a:ext cx="3168720" cy="606600"/>
        </p:xfrm>
        <a:graphic>
          <a:graphicData uri="http://schemas.openxmlformats.org/drawingml/2006/table">
            <a:tbl>
              <a:tblPr/>
              <a:tblGrid>
                <a:gridCol w="719280"/>
                <a:gridCol w="1008000"/>
                <a:gridCol w="1441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r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*10^-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65114282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3635280" y="278136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ffffff"/>
                </a:solidFill>
                <a:latin typeface="Arial"/>
              </a:rPr>
              <a:t>Ex: inter(200, 50, 0.0000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484360" y="4941720"/>
                <a:ext cx="64897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511428249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kλT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t xml:space="preserve">λ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11428249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8991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91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979245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400"/>
            </a:b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Definició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noció de cos negre va ser introduït per Gustav Kirchoff en 18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Un cos negre es un objecte teòric que absorbeix tota la radiació que re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seua radiació depèn únicament de la temperatura a la que es trob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292720" y="1484280"/>
          <a:ext cx="29545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484280"/>
                    <a:ext cx="29545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435640" y="4005360"/>
          <a:ext cx="2663640" cy="23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4005360"/>
                    <a:ext cx="266364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755640" y="189000"/>
            <a:ext cx="12016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400"/>
            </a:b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lei de Planck, Introducció històrica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5051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Lei de Rayleigh-J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Va ser la primera en intentar explicar la radiància electromagnètica del cos negre a una temperatura T, utilitzant electromagnetisme clàss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S’aprecia que si                  la radiància tendeix a infin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332000" y="2781360"/>
                <a:ext cx="18446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kT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27280" y="3716280"/>
                <a:ext cx="7113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5508720" y="1773360"/>
          <a:ext cx="3101760" cy="26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773360"/>
                    <a:ext cx="310176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84360" y="4508640"/>
            <a:ext cx="1498320" cy="2019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3492360" y="4508640"/>
            <a:ext cx="1606680" cy="19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6012000" y="4508640"/>
          <a:ext cx="222552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4508640"/>
                    <a:ext cx="22255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400"/>
            </a:b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lei de Planck, Introducció històrica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Catàstrofe ultraviol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Experiments de  Lummer i Pringsheim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Estudi experimental de la intensitat de la radiació del cos negre per a diferents longituds d’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Comprovació de la llei de Rayleigh-Jeans per a altes longituds d’ona (baixes frecuenci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Contradicció amb la llei de Rayleigh-Jeans per a baixes longituds d’o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148360" y="1587600"/>
          <a:ext cx="2981160" cy="25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587600"/>
                    <a:ext cx="2981160" cy="25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80000" y="4437000"/>
            <a:ext cx="1419120" cy="190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979640" y="4437000"/>
            <a:ext cx="1419120" cy="1905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08000" y="63817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tto Lumm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6381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rnst Pringsheim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400"/>
            </a:b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lei de Planck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lei de Plan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S’ajusta perfectament a l’espectre del cos neg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00720" y="1500120"/>
          <a:ext cx="40449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500120"/>
                    <a:ext cx="40449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11280" y="4437000"/>
            <a:ext cx="4248000" cy="2190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68360" y="189000"/>
            <a:ext cx="974520" cy="14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68360" y="2637000"/>
          <a:ext cx="2770200" cy="63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637000"/>
                    <a:ext cx="277020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11280" y="3357720"/>
          <a:ext cx="269712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3357720"/>
                    <a:ext cx="26971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2000"/>
            </a:b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lei de Stefan-Boltzmann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LLei de Stefan-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Integració de la llei de Planck per a totes les longituds d’o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er trobar l’energia irradiada per un cos negre hi ha que multiplicar E per la seua superfic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n el cas de una esfera:                                (cas útil en astronomí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71640" y="2492280"/>
          <a:ext cx="255276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92280"/>
                    <a:ext cx="25527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900000" y="3068640"/>
          <a:ext cx="279108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068640"/>
                    <a:ext cx="27910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500720" y="2438280"/>
          <a:ext cx="312408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2438280"/>
                    <a:ext cx="31240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395280" y="115920"/>
            <a:ext cx="1239840" cy="1376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7451640" y="115920"/>
            <a:ext cx="1251000" cy="137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3419640" y="4869000"/>
          <a:ext cx="1114200" cy="18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869000"/>
                    <a:ext cx="11142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2400"/>
            </a:b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lei de Wien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Lei de Wi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Relació entre         a la qual hi ha radiancia màxima i la temperatura del cos neg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Originalment experime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Es pot deduir de la llei de Plan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68360" y="191628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258920" y="2421000"/>
          <a:ext cx="2066760" cy="2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421000"/>
                    <a:ext cx="206676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42920" y="189000"/>
            <a:ext cx="870120" cy="123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26920" y="3357720"/>
            <a:ext cx="2697480" cy="61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8000" y="4005360"/>
                <a:ext cx="8064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λ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c</m:t>
                                    </m:r>
                                  </m:num>
                                  <m:den>
                                    <m:r>
                                      <m:t xml:space="preserve">λ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c</m:t>
                                        </m:r>
                                      </m:num>
                                      <m:den>
                                        <m:r>
                                          <m:t xml:space="preserve">λ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T</m:t>
                                        </m:r>
                                      </m:den>
                                    </m:f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  <m:r>
                          <m:t xml:space="preserve">≠</m:t>
                        </m:r>
                        <m:r>
                          <m:t xml:space="preserve">∞</m:t>
                        </m:r>
                      </m:e>
                    </m:acc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</m:e>
                    </m:acc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50920" y="515772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No te solució analítica, però es pot resoldre per iteració de punt fix. </a:t>
            </a: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(Resolució al final de la presentació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932360" y="1125360"/>
          <a:ext cx="3753000" cy="26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1125360"/>
                    <a:ext cx="3753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580000" y="4653000"/>
          <a:ext cx="2822760" cy="20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4653000"/>
                    <a:ext cx="282276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ff"/>
                </a:solidFill>
                <a:latin typeface="Arial"/>
              </a:rPr>
              <a:t>Cos negre</a:t>
            </a:r>
            <a:br>
              <a:rPr sz="4800"/>
            </a:b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xemples - utilitats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En astrofí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Per a calcular la temperatura de les estrel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Radiació de còsmica de fons (radiació de cos negre per 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1114200" cy="18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778200" cy="2822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32000" y="3645000"/>
                <a:ext cx="8506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8" name=""/>
          <p:cNvGraphicFramePr/>
          <p:nvPr/>
        </p:nvGraphicFramePr>
        <p:xfrm>
          <a:off x="468360" y="4005360"/>
          <a:ext cx="3222720" cy="26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005360"/>
                    <a:ext cx="322272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859280" y="4286160"/>
            <a:ext cx="3111480" cy="257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0" y="-100080"/>
          <a:ext cx="3143160" cy="18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-100080"/>
                    <a:ext cx="3143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</cp:lastModifiedBy>
  <dcterms:modified xsi:type="dcterms:W3CDTF">2008-03-28T19:02:18Z</dcterms:modified>
  <cp:revision>160</cp:revision>
  <dc:subject/>
  <dc:title>PowerPoint Presentation</dc:title>
</cp:coreProperties>
</file>